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499-4946-494C-8FFA-15F193F5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630-4338-45B0-BF3F-59A54876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9B4-9ABC-49A0-A181-76F55693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CF17-3CF5-441B-A0F9-8CB9E4A3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56C-F0E0-447F-82C5-E173B2C0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F92-B85E-4F3B-8D5F-2CFBD4C6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6F4-D543-4F7A-92A3-4BD76C1E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57F-488A-4B4E-9284-F7AD4E91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9BA-E890-4C97-BC66-B5DE1C1C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25E-B24F-4D92-B512-500610B3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06D-5F0F-4903-9EA9-F4F12150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C9B-0429-4FF4-810B-C471269B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1DB3-EE9D-4306-ACB0-5037DECBB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7/Gandhis_ashes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0"/>
            <a:ext cx="4038480" cy="1620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12-7 &amp; 8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S.E. Asia Map Test on Fri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Ch.5 voc. PPT due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219320"/>
            <a:ext cx="4038480" cy="396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12-7 &amp; 8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ages 144-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ountry has the world’s largest democrac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a’s climate is influenced by the monsoons and  the…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Indian farmers can now plant crops twice a year because of the use of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266688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914400" y="3352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imala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685800" y="4648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ams and irr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4" descr="98bp460"/>
          <p:cNvPicPr/>
          <p:nvPr/>
        </p:nvPicPr>
        <p:blipFill>
          <a:blip r:embed="rId1"/>
          <a:stretch/>
        </p:blipFill>
        <p:spPr>
          <a:xfrm>
            <a:off x="685800" y="502920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http://media.ft.com/cms/f8b3727c-43d2-11de-a9be-00144feabdc0.gif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3048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http://www.loksarthi.org/images/3_2.jpg"/>
          <p:cNvPicPr/>
          <p:nvPr/>
        </p:nvPicPr>
        <p:blipFill>
          <a:blip r:embed="rId3"/>
          <a:stretch/>
        </p:blipFill>
        <p:spPr>
          <a:xfrm>
            <a:off x="4267080" y="3429000"/>
            <a:ext cx="461196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http://static.newworldencyclopedia.org/thumb/4/48/Map_of_the_British_Empire_in_the_1920's.png/400px-Map_of_the_British_Empire_in_the_1920's.png"/>
          <p:cNvPicPr/>
          <p:nvPr/>
        </p:nvPicPr>
        <p:blipFill>
          <a:blip r:embed="rId4"/>
          <a:stretch/>
        </p:blipFill>
        <p:spPr>
          <a:xfrm>
            <a:off x="152280" y="-1143000"/>
            <a:ext cx="3810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rangoli4"/>
          <p:cNvPicPr/>
          <p:nvPr/>
        </p:nvPicPr>
        <p:blipFill>
          <a:blip r:embed="rId1"/>
          <a:stretch/>
        </p:blipFill>
        <p:spPr>
          <a:xfrm>
            <a:off x="137160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asia"/>
          <p:cNvPicPr/>
          <p:nvPr/>
        </p:nvPicPr>
        <p:blipFill>
          <a:blip r:embed="rId1"/>
          <a:srcRect l="17947" t="15278" r="8382" b="0"/>
          <a:stretch/>
        </p:blipFill>
        <p:spPr>
          <a:xfrm>
            <a:off x="533520" y="304920"/>
            <a:ext cx="8381880" cy="6095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9907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8288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0666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819520" y="2819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99072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9907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2514600" y="5257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59092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56386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31240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8"/>
          <p:cNvSpPr/>
          <p:nvPr/>
        </p:nvSpPr>
        <p:spPr>
          <a:xfrm>
            <a:off x="3048120" y="5200560"/>
            <a:ext cx="3828960" cy="1427400"/>
          </a:xfrm>
          <a:custGeom>
            <a:avLst/>
            <a:gdLst>
              <a:gd name="textAreaLeft" fmla="*/ 0 w 3828960"/>
              <a:gd name="textAreaRight" fmla="*/ 3829320 w 3828960"/>
              <a:gd name="textAreaTop" fmla="*/ 0 h 1427400"/>
              <a:gd name="textAreaBottom" fmla="*/ 1427760 h 1427400"/>
            </a:gdLst>
            <a:ahLst/>
            <a:rect l="textAreaLeft" t="textAreaTop" r="textAreaRight" b="textAreaBottom"/>
            <a:pathLst>
              <a:path w="2412" h="899">
                <a:moveTo>
                  <a:pt x="0" y="0"/>
                </a:moveTo>
                <a:cubicBezTo>
                  <a:pt x="4" y="136"/>
                  <a:pt x="1" y="272"/>
                  <a:pt x="12" y="408"/>
                </a:cubicBezTo>
                <a:cubicBezTo>
                  <a:pt x="21" y="523"/>
                  <a:pt x="266" y="502"/>
                  <a:pt x="300" y="504"/>
                </a:cubicBezTo>
                <a:cubicBezTo>
                  <a:pt x="335" y="610"/>
                  <a:pt x="321" y="551"/>
                  <a:pt x="336" y="684"/>
                </a:cubicBezTo>
                <a:cubicBezTo>
                  <a:pt x="360" y="676"/>
                  <a:pt x="384" y="668"/>
                  <a:pt x="408" y="660"/>
                </a:cubicBezTo>
                <a:cubicBezTo>
                  <a:pt x="420" y="656"/>
                  <a:pt x="444" y="648"/>
                  <a:pt x="444" y="648"/>
                </a:cubicBezTo>
                <a:cubicBezTo>
                  <a:pt x="541" y="658"/>
                  <a:pt x="617" y="678"/>
                  <a:pt x="708" y="708"/>
                </a:cubicBezTo>
                <a:cubicBezTo>
                  <a:pt x="769" y="728"/>
                  <a:pt x="836" y="724"/>
                  <a:pt x="900" y="732"/>
                </a:cubicBezTo>
                <a:cubicBezTo>
                  <a:pt x="1165" y="764"/>
                  <a:pt x="1328" y="772"/>
                  <a:pt x="1620" y="780"/>
                </a:cubicBezTo>
                <a:cubicBezTo>
                  <a:pt x="1867" y="815"/>
                  <a:pt x="2162" y="899"/>
                  <a:pt x="2376" y="756"/>
                </a:cubicBezTo>
                <a:cubicBezTo>
                  <a:pt x="2396" y="697"/>
                  <a:pt x="2412" y="703"/>
                  <a:pt x="2412" y="636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0"/>
          <p:cNvSpPr/>
          <p:nvPr/>
        </p:nvSpPr>
        <p:spPr>
          <a:xfrm>
            <a:off x="5295960" y="3828960"/>
            <a:ext cx="471600" cy="1314720"/>
          </a:xfrm>
          <a:custGeom>
            <a:avLst/>
            <a:gdLst>
              <a:gd name="textAreaLeft" fmla="*/ 0 w 471600"/>
              <a:gd name="textAreaRight" fmla="*/ 471960 w 471600"/>
              <a:gd name="textAreaTop" fmla="*/ 0 h 1314720"/>
              <a:gd name="textAreaBottom" fmla="*/ 1315080 h 1314720"/>
            </a:gdLst>
            <a:ahLst/>
            <a:rect l="textAreaLeft" t="textAreaTop" r="textAreaRight" b="textAreaBottom"/>
            <a:pathLst>
              <a:path w="297" h="828">
                <a:moveTo>
                  <a:pt x="0" y="0"/>
                </a:moveTo>
                <a:cubicBezTo>
                  <a:pt x="78" y="26"/>
                  <a:pt x="158" y="1"/>
                  <a:pt x="228" y="48"/>
                </a:cubicBezTo>
                <a:cubicBezTo>
                  <a:pt x="270" y="175"/>
                  <a:pt x="200" y="318"/>
                  <a:pt x="276" y="432"/>
                </a:cubicBezTo>
                <a:cubicBezTo>
                  <a:pt x="272" y="460"/>
                  <a:pt x="272" y="489"/>
                  <a:pt x="264" y="516"/>
                </a:cubicBezTo>
                <a:cubicBezTo>
                  <a:pt x="260" y="530"/>
                  <a:pt x="240" y="538"/>
                  <a:pt x="240" y="552"/>
                </a:cubicBezTo>
                <a:cubicBezTo>
                  <a:pt x="240" y="577"/>
                  <a:pt x="264" y="624"/>
                  <a:pt x="264" y="624"/>
                </a:cubicBezTo>
                <a:cubicBezTo>
                  <a:pt x="250" y="828"/>
                  <a:pt x="297" y="828"/>
                  <a:pt x="120" y="82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38862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3"/>
          <p:cNvSpPr/>
          <p:nvPr/>
        </p:nvSpPr>
        <p:spPr>
          <a:xfrm flipH="1">
            <a:off x="3657600" y="5029200"/>
            <a:ext cx="380880" cy="76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4267080" y="5029200"/>
            <a:ext cx="30492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42670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 flipH="1">
            <a:off x="4191120" y="4419720"/>
            <a:ext cx="30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36576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342900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3543480" y="3581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3048120" y="3429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7315200" y="3733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3"/>
          <p:cNvSpPr/>
          <p:nvPr/>
        </p:nvSpPr>
        <p:spPr>
          <a:xfrm flipH="1">
            <a:off x="2362320" y="2895480"/>
            <a:ext cx="30456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1828800" y="5638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8"/>
          <p:cNvSpPr/>
          <p:nvPr/>
        </p:nvSpPr>
        <p:spPr>
          <a:xfrm flipV="1">
            <a:off x="2819520" y="342900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0"/>
          <p:cNvSpPr/>
          <p:nvPr/>
        </p:nvSpPr>
        <p:spPr>
          <a:xfrm flipV="1">
            <a:off x="2819520" y="5333760"/>
            <a:ext cx="9903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2"/>
          <p:cNvSpPr/>
          <p:nvPr/>
        </p:nvSpPr>
        <p:spPr>
          <a:xfrm flipV="1">
            <a:off x="1371600" y="4876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259092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434340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32"/>
          <p:cNvCxnSpPr/>
          <p:nvPr/>
        </p:nvCxnSpPr>
        <p:spPr>
          <a:xfrm>
            <a:off x="4570920" y="4800600"/>
            <a:ext cx="111960" cy="25596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www.probertencyclopaedia.com/photolib/maps/Map%20of%20British%20Empire%2019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50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static.newworldencyclopedia.org/thumb/4/4f/Clive.jpg/300px-Clive.jpg"/>
          <p:cNvPicPr/>
          <p:nvPr/>
        </p:nvPicPr>
        <p:blipFill>
          <a:blip r:embed="rId2"/>
          <a:stretch/>
        </p:blipFill>
        <p:spPr>
          <a:xfrm>
            <a:off x="0" y="495288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originofnations.org/British_Empire/image002.jpg"/>
          <p:cNvPicPr/>
          <p:nvPr/>
        </p:nvPicPr>
        <p:blipFill>
          <a:blip r:embed="rId3"/>
          <a:stretch/>
        </p:blipFill>
        <p:spPr>
          <a:xfrm>
            <a:off x="6627960" y="4952880"/>
            <a:ext cx="2516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singapore-map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ingapore 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www.eco-business.com/wp-content/uploads/photologue/photos/singapore.jpg"/>
          <p:cNvPicPr/>
          <p:nvPr/>
        </p:nvPicPr>
        <p:blipFill>
          <a:blip r:embed="rId1"/>
          <a:stretch/>
        </p:blipFill>
        <p:spPr>
          <a:xfrm>
            <a:off x="0" y="0"/>
            <a:ext cx="4619520" cy="346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www.holidaysintourism.com/wp-content/uploads/2011/09/holiday-in-Singapore.jpg"/>
          <p:cNvPicPr/>
          <p:nvPr/>
        </p:nvPicPr>
        <p:blipFill>
          <a:blip r:embed="rId2"/>
          <a:stretch/>
        </p:blipFill>
        <p:spPr>
          <a:xfrm>
            <a:off x="0" y="3433680"/>
            <a:ext cx="4572000" cy="342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s://www.bookajourney.com/photos/packages/1316777080singapore123.jpg"/>
          <p:cNvPicPr/>
          <p:nvPr/>
        </p:nvPicPr>
        <p:blipFill>
          <a:blip r:embed="rId3"/>
          <a:stretch/>
        </p:blipFill>
        <p:spPr>
          <a:xfrm>
            <a:off x="4591080" y="1295280"/>
            <a:ext cx="45529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nt20661"/>
          <p:cNvPicPr/>
          <p:nvPr/>
        </p:nvPicPr>
        <p:blipFill>
          <a:blip r:embed="rId1"/>
          <a:stretch/>
        </p:blipFill>
        <p:spPr>
          <a:xfrm>
            <a:off x="5486400" y="45720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nglese"/>
          <p:cNvPicPr/>
          <p:nvPr/>
        </p:nvPicPr>
        <p:blipFill>
          <a:blip r:embed="rId2"/>
          <a:srcRect l="60840" t="0" r="0" b="0"/>
          <a:stretch/>
        </p:blipFill>
        <p:spPr>
          <a:xfrm>
            <a:off x="5715000" y="3429000"/>
            <a:ext cx="1652760" cy="285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frhardonvisitsmotherteresah"/>
          <p:cNvPicPr/>
          <p:nvPr/>
        </p:nvPicPr>
        <p:blipFill>
          <a:blip r:embed="rId3"/>
          <a:stretch/>
        </p:blipFill>
        <p:spPr>
          <a:xfrm>
            <a:off x="0" y="0"/>
            <a:ext cx="4762440" cy="310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capt"/>
          <p:cNvPicPr/>
          <p:nvPr/>
        </p:nvPicPr>
        <p:blipFill>
          <a:blip r:embed="rId4"/>
          <a:stretch/>
        </p:blipFill>
        <p:spPr>
          <a:xfrm>
            <a:off x="1295280" y="3295800"/>
            <a:ext cx="2762280" cy="3562200"/>
          </a:xfrm>
          <a:prstGeom prst="rect">
            <a:avLst/>
          </a:prstGeom>
          <a:ln w="0">
            <a:noFill/>
          </a:ln>
        </p:spPr>
      </p:pic>
      <p:sp>
        <p:nvSpPr>
          <p:cNvPr id="62" name="WordArt 14"/>
          <p:cNvSpPr txBox="1"/>
          <p:nvPr/>
        </p:nvSpPr>
        <p:spPr>
          <a:xfrm>
            <a:off x="2610000" y="3111480"/>
            <a:ext cx="39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ther Theres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handas Gand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Image:Gandhis ash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2670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d3"/>
          <p:cNvPicPr/>
          <p:nvPr/>
        </p:nvPicPr>
        <p:blipFill>
          <a:blip r:embed="rId3"/>
          <a:stretch/>
        </p:blipFill>
        <p:spPr>
          <a:xfrm>
            <a:off x="5791320" y="1371600"/>
            <a:ext cx="286524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d7"/>
          <p:cNvPicPr/>
          <p:nvPr/>
        </p:nvPicPr>
        <p:blipFill>
          <a:blip r:embed="rId4"/>
          <a:stretch/>
        </p:blipFill>
        <p:spPr>
          <a:xfrm>
            <a:off x="609480" y="1219320"/>
            <a:ext cx="1805040" cy="218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d92"/>
          <p:cNvPicPr/>
          <p:nvPr/>
        </p:nvPicPr>
        <p:blipFill>
          <a:blip r:embed="rId5"/>
          <a:stretch/>
        </p:blipFill>
        <p:spPr>
          <a:xfrm>
            <a:off x="6095880" y="3962520"/>
            <a:ext cx="2743200" cy="234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e91"/>
          <p:cNvPicPr/>
          <p:nvPr/>
        </p:nvPicPr>
        <p:blipFill>
          <a:blip r:embed="rId6"/>
          <a:stretch/>
        </p:blipFill>
        <p:spPr>
          <a:xfrm>
            <a:off x="2590920" y="3924360"/>
            <a:ext cx="3305160" cy="293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greetimg1"/>
          <p:cNvPicPr/>
          <p:nvPr/>
        </p:nvPicPr>
        <p:blipFill>
          <a:blip r:embed="rId7"/>
          <a:stretch/>
        </p:blipFill>
        <p:spPr>
          <a:xfrm>
            <a:off x="3276720" y="1143000"/>
            <a:ext cx="1771560" cy="2381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0"/>
          <p:cNvSpPr/>
          <p:nvPr/>
        </p:nvSpPr>
        <p:spPr>
          <a:xfrm>
            <a:off x="228600" y="6400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dhi’s a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5943600" y="6280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dhi and his wife (to the left) spinning the Chark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38088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dhi with N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flowers"/>
          <p:cNvPicPr/>
          <p:nvPr/>
        </p:nvPicPr>
        <p:blipFill>
          <a:blip r:embed="rId1"/>
          <a:stretch/>
        </p:blipFill>
        <p:spPr>
          <a:xfrm>
            <a:off x="1828800" y="228600"/>
            <a:ext cx="48862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mandana"/>
          <p:cNvPicPr/>
          <p:nvPr/>
        </p:nvPicPr>
        <p:blipFill>
          <a:blip r:embed="rId1"/>
          <a:stretch/>
        </p:blipFill>
        <p:spPr>
          <a:xfrm>
            <a:off x="990720" y="228600"/>
            <a:ext cx="6933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5:24:02Z</dcterms:created>
  <dc:creator>sramsey</dc:creator>
  <dc:description/>
  <dc:language>en-US</dc:language>
  <cp:lastModifiedBy>poweruser</cp:lastModifiedBy>
  <dcterms:modified xsi:type="dcterms:W3CDTF">2011-12-07T14:10:15Z</dcterms:modified>
  <cp:revision>21</cp:revision>
  <dc:subject/>
  <dc:title>Slide 1</dc:title>
</cp:coreProperties>
</file>